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8B01-923B-43D9-96AA-D74F9E25F73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E440-4561-403C-9FE0-D0D3D438F4B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1AE-99B6-420E-A464-D301D77A871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BFF-64E2-4E9A-BD64-726E277A01D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935-B0B7-4865-BC4D-E7E9308C3E0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287-0F61-43B5-A3E3-2B1FC23A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195-10BA-4246-9597-0931554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CDC-3ADE-4C9C-9D36-5624C9D9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19C-97AB-48D4-98FE-440969F5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243-EB2E-4202-B85C-8880297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78B-860A-40B4-A68F-C779D34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AC5-2A2D-49AD-A45E-22D672DF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022-A713-4895-AFD0-C35DD027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101-E03E-4D12-BD0A-6CFEEC3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8AD-75CC-46E3-9487-783017E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014-F872-4C07-81E6-CBF5216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463-75FB-4ABF-9C3F-EDAD91D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E4A-9C91-43B0-837A-3659BFD24611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2286000"/>
            <a:ext cx="69343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N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 rot="20275200">
            <a:off x="296640" y="3082680"/>
            <a:ext cx="855000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FAÇA A ESCOLHA CORREC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 flexões não são transmitidas à 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a compact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Reduz 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umenta a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lhora o conforto e a 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2º número identifica a série do pneu, ou s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último nº identifica o diâmetro da jante (em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 um dado importante, que está directamente lig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1- À velocidade máxima a que pod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2-À carga que pode supor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ambém é possível conhecê-la nos números identificados no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capacidade de carga é-nos dada por um número (116) que figura numa tabela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00000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UNÇÕES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uportar a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as forças de aceleração e trav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irigir o ve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suspensão e no conf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sumir a menor energia pos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CARACTERIZAÇÃO DOS VÁRIOS TIPOS DE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MEDIDAS DOS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RESISTÊNCIA DE UM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Times New Roman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VEJAMOS UM PNEU EM C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onas ou t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Tal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ojo ou flan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OS PNEUS PODEM CLASSIFICAR-SE PELA SUA ESTRU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BANDA DE ROLAMENTO ESTÁ SOLIDÁRIA COM OS FLAN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ricção com 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gaste mai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or ad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umo de combustível mais ele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8:43Z</dcterms:modified>
  <cp:revision>5</cp:revision>
  <dc:subject/>
  <dc:title>ARCO DE SEGURANÇA OU PÓRTICO</dc:title>
</cp:coreProperties>
</file>